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F0A-4BC4-444F-BEDF-00BD3B83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141-CA25-4EF1-9510-191BBDFE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04B-AFF4-4E53-830A-7A53A82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AD7-C4B8-4D37-A147-682F1158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3CB-A23B-4BBA-9BAD-D99FE67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9C2-B85D-4505-9C6E-C2872F04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86D-33CB-4AE7-B3A5-D2A24D8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3D5-E487-4807-854B-5293A79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7A4-97B6-4550-9D99-7CBA239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4D9-F9B0-4854-918B-543E260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2A0-5EAA-493A-97C3-68BF4C9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A37-964D-42FD-A40C-F793E59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C2E7-1835-4B4D-A7F4-BCAF214BA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75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89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581040"/>
            <a:ext cx="8782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487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2796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407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920" y="333360"/>
            <a:ext cx="8821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14480" y="981000"/>
            <a:ext cx="88135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856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916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0:46:03Z</dcterms:created>
  <dc:creator>Gaudry</dc:creator>
  <dc:description/>
  <dc:language>en-US</dc:language>
  <cp:lastModifiedBy> </cp:lastModifiedBy>
  <dcterms:modified xsi:type="dcterms:W3CDTF">2011-11-30T13:18:29Z</dcterms:modified>
  <cp:revision>1</cp:revision>
  <dc:subject/>
  <dc:title>Diapositive 1</dc:title>
</cp:coreProperties>
</file>