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ACA5-9061-435E-9E10-5F18C0FDE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2B71-94AB-4E9C-A603-73A81760EA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FD74-7CB4-4701-AD30-0089D21E9C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6515A-49EB-4997-8818-AC8C5D09F8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F853-1478-4E0B-8A8D-C7DFE20097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7E99D-877D-45C7-8214-C127900AA2B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27544-54ED-422E-BC59-69A13622F92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22AF-3363-4FC9-9EAD-945CF65316E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D5708-4933-42A5-A01C-3169CC1EE1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56265-C2C7-418E-88BA-67F74E0F7B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A21D9-9EF7-4183-877E-61937149CC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B9252-5BA5-444B-83CD-62583C668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131C-499A-4A47-9D4E-FD1A516FAE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F85BD-1309-4ED7-805A-4FADAF2B06B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B6322-0658-4D3B-9881-99060A70C1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9A45B-36E5-4B7D-AC08-AC53021F94F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AE9E5-F53F-4692-949F-0A1B444267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447BC-805B-400E-A9BB-7001910C36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9E66E-AE60-420A-9F27-E45F2EDD646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26F2C-2110-4554-ABBD-48FE5A0EB5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14FB3-BEDB-45A7-A72D-EC92731F6F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C8C19-6EBD-4EB7-BCAF-3D8BE757BE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2DF1F-39E9-470C-9DA9-126D7C519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166B-24A2-47A8-9A54-4165EC0588E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AB0BA-AA2F-443E-8A6B-01E66B9E8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DDD5E-A75A-4197-BB81-E6430175D7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0A3ED-0176-44F0-9EDC-1A3470EEB8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A86E9-0869-4D2F-A209-8FBED613B1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8C790-B5D9-46DB-9451-5F9DF0E982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03AEA-9331-4195-9604-75A31F985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E8741-0918-43A6-9EFF-C25D8C49AB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6044D-EC57-4F1F-B396-70156A472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9496-9644-4EC2-9E11-10146A8FB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B502A-8653-4838-90AD-1F5CA32E15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E4BB5-7727-41C0-9126-1EA1FBA600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584AE-D855-4225-902E-65D429E842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5B4EE-9810-4DBD-B581-9597B0BF90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72E5E-FA67-4F45-BEE8-676B0D7D37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21E8-CA70-45CA-B4A5-57B6F5C4C9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17F-9C5D-4D9E-B71F-19923985FB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724E-A3AC-4519-AE27-4398B27B03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E2A6-8C4A-4732-8738-058A2ABEA8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6123-BBCB-4418-9885-7BCEE4D1F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094F-E9A6-4D13-8D28-169B3213E9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3977-693E-4B01-90FD-72974E2F93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E3C8-1968-4185-984D-78249651E0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A69-57AF-4272-BC99-62397362C6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8713-8F88-4FE6-8797-1D7F365C66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8593-0101-4783-BAFC-DA3F45B1FD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CAE-2836-4CBC-952B-09694F216E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044-A076-4926-AE8F-97A9FA3CF5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54412-7E3E-4160-921F-F5DED028CF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C9C0A-A272-4635-9FAA-58632C8D21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B2A80-50DA-47B8-8137-2EE0D067F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6B6B-1A9E-44B4-B524-1AF1ED244D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8B82F-1489-4C35-A7F7-E56B6952A7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89418-C1FF-46AE-9763-7095A26429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64236-8A8A-45DC-BB80-AD7207FF49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FF8B5-7949-4238-BBB6-448E3595F7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ED3CD-7A1D-41A1-ABFA-EE8B51650C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67013-D590-424E-9C2F-4C93B8D5DC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A592C-9E34-4FA9-B80C-C509BFDF06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96412-1696-41A7-8A6D-77888CCB5A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32D3A-A98E-4F34-BF65-F432A2C470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877B0-95AA-4832-89D2-A54462047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1CAE-A701-4716-9530-E326EFCAFD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DB7CC-F63E-48BF-B6E4-1957A8E7C7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2FD04-BE9E-48DC-8333-05DB39D56D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894AB-B094-4611-84C4-C75D296B67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AB3F1-92DE-4BB4-B050-04FB0BD89F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72E60-81E3-4A57-9F37-19697FA358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3E0D1-C2D6-490F-9655-207AF85135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04776-B2C1-4395-A63B-09DA959EE8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C8236-98C7-4D70-8EDA-D47BEDC98B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934CD-4FFF-41FC-A446-67408B29A2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25C3C-8D79-41F6-9220-BDE3A98BD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0151-D4A1-4181-AE4A-D28E7D3709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AC047-94C3-484C-AA9C-C90DCDFCE0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6FA6-A503-4E65-A3F3-7FB7A07506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E3FC-6E23-49F8-8AB7-03503184B7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A939-A5C5-41E6-9457-7589C9C4F0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FE19-D4FF-4C3E-8006-38ADA408AA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7DCF-0A3B-49D3-A6A6-797810285C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6293-9E7D-4ED0-9D0B-C5DB98624D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D3C4-97CE-4B86-AF3B-A869B228EB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E9F1-C075-4832-AE2A-D7B4ACE4A4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B1D5-48BF-4AE7-83AC-D8912F773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0A2E-9036-4E0F-9A26-62C80888EE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61EC-9336-4D88-BE78-FFE9D8DCBC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E4D4-899B-462B-AD96-A99C98675F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CE78-E3DC-4428-B2F2-7E1F278C9CB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1A539-B7BF-461D-8F7C-1EA91E2797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564C9-9343-4024-BA8E-3EE87D9B37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B0C3E-40D7-43C7-9354-92950CA4E0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78A50-590A-4F46-96CA-5DE857B3C5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A897B-3263-4037-80FD-A8D3FE5D72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8F0FC-24C8-4BB7-9BF8-45B86C71C9C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91BE6-A177-46F8-8D15-47B8B8716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373D-06E1-4669-A06E-A1011A7CD4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13B7E-2329-4EC4-BFD6-5BBFF8DC6C6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86564-7070-441B-9B09-D7F538CEBF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3CBB1-9745-40A3-8412-D8A5CC859E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F50B5-F38F-4DAE-A7E3-815B04BB4B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9F19D-5706-4AAD-A602-F304950D88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2FD3E-E852-4B4E-A540-E5E9CA4763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AC471-57D9-4CBF-8873-EC37C5F3AF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08C793-83C4-4D16-AE4A-F4262E0D1D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E3B2C-62E0-4BAB-8053-A850652066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B87BD0-757C-466F-AEA0-39A6C7F72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C8D5-A0CC-45EB-8CB0-32CC89CA2D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4560" y="259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9DCD2-DC2B-46B9-837F-7B9D5C35DF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40B44-7A61-41DE-8ED5-C0C291A03D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843BF-10F6-44C3-BA90-AB023488CB8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340AF-FC91-419F-8BFE-245169BBB5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4560" y="3927600"/>
            <a:ext cx="84582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2A561-7FF7-4AB6-A6DA-6216EAF57B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38600" y="15570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456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38600" y="3927600"/>
            <a:ext cx="4127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3D775F-7C0B-4ADD-A9B8-2ACF3B0324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44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4600" y="15570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456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44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4600" y="3927600"/>
            <a:ext cx="2723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B6626-06DD-4FDB-9E72-9F42812DE08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09AC-F9E1-4D70-A257-9BEDD031EA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63A1D-A61E-4B75-ADA1-B2EA45EC35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7B75-99DA-4723-AEA6-F9367C241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verhead </a:t>
            </a:r>
            <a:fld id="{AC3D4BB5-7D06-43D3-8D51-4ED910FBE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C9D787BE-8801-4452-A86F-AE595479C0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3CBC8767-9552-4E8F-92DC-2E05927B19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77D67CCE-B269-4AE5-9198-AE3973DBE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1AFB86E3-B9ED-4725-940F-CEB27F6F1E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186D0EBF-0186-43C0-BCEB-AA2B60F63E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139C0625-9DAC-4119-8FE0-64E7AAC3F1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120B7FB7-1DF1-47EB-93F1-D250C6466E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68E58E64-834B-46F7-858C-890B4A5C8E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lselogosm"/>
          <p:cNvPicPr/>
          <p:nvPr/>
        </p:nvPicPr>
        <p:blipFill>
          <a:blip r:embed="rId2"/>
          <a:stretch/>
        </p:blipFill>
        <p:spPr>
          <a:xfrm>
            <a:off x="3808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1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9144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H464: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Historical Context of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tin America and the Great De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7086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© Dr Tim Leun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verhead </a:t>
            </a:r>
            <a:fld id="{4F813BC0-EB3B-415C-A8E9-D1B431C77F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560" y="2717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Transport Forum</a:t>
            </a:r>
            <a:br>
              <a:rPr sz="2200"/>
            </a:br>
            <a:br>
              <a:rPr sz="20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ansport infrastructure          and economic growth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 Tim Leunig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12" name="Picture 5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A transformational infrastructure project will usually transform a factor price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Prior to the railways and the steam ship, land in Argentina’s interior was worthless. 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Ditto the American midwest with canals and railway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Obvious parallels with international trade literature – factor price equalisation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49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50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E21B88B6-D0AA-4219-B44B-26755B7C8F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ugg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839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If you claim a project will be transformational, state the factor price you predict will change.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Will a new area of settlement open up, raising land prices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Will a new group of people “get connected”, raising wages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Will prices fall as new supplies come on stream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What quantity of the item is sold? Is it a lot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53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5A969810-4FAC-4B97-9E0E-AF2BB8459B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odern day example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Dockland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he land was worth very little c. 1980.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Now it is worth a lot (although not as much as the City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Prior to the DLR &amp; JLE, land in Docklands was a poor substitute for land in the City.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Afterwards it was a better substitute, and prices converged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57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58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CEBF04B9-AF4C-4D9D-9EA0-98BD7CA9DA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y did it wor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Because the City was bursting at the seam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Finance was growing, rents were VERY high, wages were high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It was a good bet as an industry to expand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Up or out – we choose out, although since then have supplemented out with up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61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62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8D6663C5-A496-4CE4-9495-06D7C6522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arison with Shef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Supertram is the same length as Dockland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Built at the same time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Passenger miles = 1/6 of Dockland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Sheffield is not “land constrained” like the City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No need to go up or out!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herefore transformed nothing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65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66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670FAF32-A9CA-4DF9-9DE7-23FA44130C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odern day example 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Prior to A8 accession, UK and Polish wages were very different.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Lots of Poles came to work in London, and presumably wages converged a bi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Ryanair helped, but the coach would have been sufficien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It was deregulation of labour markets that caused price convergence, not transpor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69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70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544C644C-20F1-4603-825B-D8C2295CB3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3463_l"/>
          <p:cNvPicPr/>
          <p:nvPr/>
        </p:nvPicPr>
        <p:blipFill>
          <a:blip r:embed="rId1"/>
          <a:srcRect l="3731" t="0" r="0" b="3691"/>
          <a:stretch/>
        </p:blipFill>
        <p:spPr>
          <a:xfrm>
            <a:off x="3268800" y="187200"/>
            <a:ext cx="5840280" cy="59058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odern day 3 Øresund Bri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3835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5.3km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$8bn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36m pas/year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40 Euro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Only 1.25m people live in Skåne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74" name="Picture 6" descr="ANd9GcS4xhEutzdBBJDreN_O-Sn8RyuylNMjD1wVDyXs1-LPDQMefWVgkQ"/>
          <p:cNvPicPr/>
          <p:nvPr/>
        </p:nvPicPr>
        <p:blipFill>
          <a:blip r:embed="rId2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75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81DA76AD-1253-475A-B2EC-BBE5E74855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olations 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Agglomeration economie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101"/>
                </a:solidFill>
                <a:latin typeface="Arial"/>
              </a:rPr>
              <a:t>The post, telephone, fax, email, skype, videoconferencing etc are poor substitutes for proper face to face interaction.</a:t>
            </a:r>
            <a:endParaRPr b="0" lang="en-US" sz="30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101"/>
                </a:solidFill>
                <a:latin typeface="Arial"/>
              </a:rPr>
              <a:t>1 + 1 = 3</a:t>
            </a:r>
            <a:endParaRPr b="0" lang="en-US" sz="30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78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79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346976EC-677E-4C4B-AFF6-41F53AA8AD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storicall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he railways were revolutionary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Did they radically change the location of industry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82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83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532C0898-1299-4EB7-9AF5-C30A658FEA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rcRect l="17714" t="28343" r="17714" b="9448"/>
          <a:stretch/>
        </p:blipFill>
        <p:spPr>
          <a:xfrm>
            <a:off x="515880" y="417600"/>
            <a:ext cx="7872480" cy="4740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5445000"/>
            <a:ext cx="76518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urnal of Economic History, 2007</a:t>
            </a:r>
            <a:endParaRPr b="0" lang="en-US" sz="20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87" name="Picture 5" descr="ANd9GcS4xhEutzdBBJDreN_O-Sn8RyuylNMjD1wVDyXs1-LPDQMefWVgkQ"/>
          <p:cNvPicPr/>
          <p:nvPr/>
        </p:nvPicPr>
        <p:blipFill>
          <a:blip r:embed="rId2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88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854B77D6-A1C2-4660-8459-A32C7BC400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ck to basic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Y=f(K,L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Diminishing marginal return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15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16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E7EACC33-4DAE-41AE-AEA7-4B6E034D44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o think abo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he UK &amp; French economies are &gt; $2tr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NOTHING can transform a $2tr economy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(well, not upwards!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91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92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78922641-D6C6-4A3D-873F-92CE1CA8A8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 govt to think about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High price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If the price of something is very high, can you expand it, or allow it to expand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Silicon Valley vs Oxford and Cambridge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O &amp; C land values suggest that they should grow (£4m/ha with residential planning permission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95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96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9AE3BB56-1C61-4A15-94D2-F338CCADA9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 govt to think about 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Low price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If people in one place within the country are paid less than in another, can you connect them? Or allow them to move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If your people with skill level X are paid less than elsewhere, investigate why. It </a:t>
            </a:r>
            <a:r>
              <a:rPr b="0" i="1" lang="en-GB" sz="3200" spc="-1" strike="noStrike">
                <a:solidFill>
                  <a:srgbClr val="ff0101"/>
                </a:solidFill>
                <a:latin typeface="Arial"/>
              </a:rPr>
              <a:t>may </a:t>
            </a: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be transport and lack of agglomeration (but not likely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99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500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2A13DB6D-0403-4342-86CC-A225C28340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 govt to think about 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Go to NY, London and LA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ransport is pretty rubbish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Yet they are successful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Don’t overemphasise transpor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503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504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23D73322-B5E4-46DD-947F-A961BFD14C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s it transport that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Makes Reading richer than Rochdale? (no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Makes Switzerland richer than Swaziland (no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507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508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ACA100FE-9404-493A-887A-7CF420F24D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mments?</a:t>
            </a:r>
            <a:br>
              <a:rPr sz="4400"/>
            </a:br>
            <a:br>
              <a:rPr sz="2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511" name="Picture 5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75440"/>
            <a:ext cx="316728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olation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A new technology that is so big, it saves a colossal amount of time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Harry Potter’s flu powder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19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20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4C06C1B2-D195-450F-A2C1-2EA8D38850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ention of the railw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c. 25mph (40kmph) in the nineteenth century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Compares with 2.5 mph (4kmph) walking or by cart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London to Brighton was 3 days before, became 2 hours afterward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Used by lots of people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23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24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A3462D30-6105-4015-ABD6-70BEF4D7B1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rcRect l="23619" t="18896" r="11810" b="11810"/>
          <a:stretch/>
        </p:blipFill>
        <p:spPr>
          <a:xfrm>
            <a:off x="155520" y="333360"/>
            <a:ext cx="8664480" cy="5813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ailways were us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5292720" y="131616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urnal of Economic History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ANd9GcS4xhEutzdBBJDreN_O-Sn8RyuylNMjD1wVDyXs1-LPDQMefWVgkQ"/>
          <p:cNvPicPr/>
          <p:nvPr/>
        </p:nvPicPr>
        <p:blipFill>
          <a:blip r:embed="rId2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30" name="Footer Placeholder 4"/>
          <p:cNvSpPr/>
          <p:nvPr/>
        </p:nvSpPr>
        <p:spPr>
          <a:xfrm>
            <a:off x="5724360" y="6245280"/>
            <a:ext cx="295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9A9D8FF2-4E4C-4217-A4D6-99193BF8CC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odern equival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Low cost airlines replacing coaches?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See Golson and Leunig on benefits of point to point service (just started!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DD0D31C8-384E-48F4-9DBC-26E4AF99AC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steamship for goo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he British cotton industry – biggest in the world, 500k employed in cotton processing, 1.2m in textiles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All raw cotton is imported, 80% of cotton cloth exported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Nineteenth century English population growth outstrips Ireland’s. Ireland starves, and England gets rich…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37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38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D3CCF611-4CCE-4E7B-9DA4-E0882DFC54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olations 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Completing a network 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101"/>
                </a:solidFill>
                <a:latin typeface="Arial"/>
              </a:rPr>
              <a:t>Aschauer and American highways</a:t>
            </a:r>
            <a:endParaRPr b="0" lang="en-US" sz="30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101"/>
                </a:solidFill>
                <a:latin typeface="Arial"/>
              </a:rPr>
              <a:t>Digging the last metre of the channel tunnel was very worth while</a:t>
            </a:r>
            <a:endParaRPr b="0" lang="en-US" sz="30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101"/>
                </a:solidFill>
                <a:latin typeface="Arial"/>
              </a:rPr>
              <a:t>Repairing landslipped roads in China, Borneo, etc</a:t>
            </a:r>
            <a:endParaRPr b="0" lang="en-US" sz="3000" spc="-1" strike="noStrike">
              <a:solidFill>
                <a:srgbClr val="ff0101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101"/>
                </a:solidFill>
                <a:latin typeface="Arial"/>
              </a:rPr>
              <a:t>NOT Beeching – most journeys are point to point</a:t>
            </a:r>
            <a:endParaRPr b="0" lang="en-US" sz="30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41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42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2A2C2D9B-1920-4A35-9AAE-D2548D90E7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LatAm railway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Complete the “LatAm farm – European table” chain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Brazilian &amp; Mexican railways have social savings of c. 33% 1913 (Summerhill, 2005, Coatsworth, 1979).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101"/>
                </a:solidFill>
                <a:latin typeface="Arial"/>
              </a:rPr>
              <a:t>The figure for Germany is &lt;5% (Gremdling 1983)</a:t>
            </a:r>
            <a:endParaRPr b="0" lang="en-US" sz="3200" spc="-1" strike="noStrike">
              <a:solidFill>
                <a:srgbClr val="ff0101"/>
              </a:solidFill>
              <a:latin typeface="Arial"/>
            </a:endParaRPr>
          </a:p>
        </p:txBody>
      </p:sp>
      <p:pic>
        <p:nvPicPr>
          <p:cNvPr id="445" name="Picture 4" descr="ANd9GcS4xhEutzdBBJDreN_O-Sn8RyuylNMjD1wVDyXs1-LPDQMefWVgkQ"/>
          <p:cNvPicPr/>
          <p:nvPr/>
        </p:nvPicPr>
        <p:blipFill>
          <a:blip r:embed="rId1"/>
          <a:stretch/>
        </p:blipFill>
        <p:spPr>
          <a:xfrm>
            <a:off x="900000" y="6188040"/>
            <a:ext cx="3167280" cy="566640"/>
          </a:xfrm>
          <a:prstGeom prst="rect">
            <a:avLst/>
          </a:prstGeom>
          <a:ln w="0">
            <a:noFill/>
          </a:ln>
        </p:spPr>
      </p:pic>
      <p:sp>
        <p:nvSpPr>
          <p:cNvPr id="446" name="Footer Placeholder 4"/>
          <p:cNvSpPr/>
          <p:nvPr/>
        </p:nvSpPr>
        <p:spPr>
          <a:xfrm>
            <a:off x="3124080" y="6245280"/>
            <a:ext cx="55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 Tim Leunig </a:t>
            </a:r>
            <a:fld id="{EE2EE171-D55A-4B03-BE96-67E57BB553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3:11:00Z</dcterms:created>
  <dc:creator>Dr Tim Leunig</dc:creator>
  <dc:description/>
  <dc:language>en-US</dc:language>
  <cp:lastModifiedBy>roullet_f</cp:lastModifiedBy>
  <dcterms:modified xsi:type="dcterms:W3CDTF">2011-12-02T08:07:57Z</dcterms:modified>
  <cp:revision>33</cp:revision>
  <dc:subject/>
  <dc:title>EH101: The Internationalisation of Economic Growth  The British Economy in 1870</dc:title>
</cp:coreProperties>
</file>